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15CE-0BC9-4FE7-A33C-21B9EA04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AF2-56E1-40B4-AA8F-77909223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BB2-54DB-437C-8236-70418D5C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B99-8F4C-4F9B-B344-A0E03E04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1D51-0C43-424C-8512-A6D54559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3CF1-BA82-4631-A58A-99740DE6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E86D-090E-4E80-8A92-472F18E5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1D96-EBFD-4A93-805A-77548AC8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FEF2-33E2-4873-BCBC-2BA706C9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E0B8-900B-434B-AC2D-BC877137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2CA9-C8AF-4D9E-ABBB-A6614B16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C0C-3D24-4789-A4D5-D281EBFA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6032-91B5-433B-BECE-4881BBB7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3B31-CDAD-4C54-9D45-491C5F5B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52E3-F158-4D49-AEA0-D09E9895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EDA5-7F76-4403-B219-EC4BB108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7BF7-DA32-4013-833F-CB035C52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CA0-7DE7-4EE3-B94D-B7373B51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C59-27F3-401B-840B-20A86288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6671-932B-421B-8EF6-369F24BA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47EE-F06A-42A1-B07A-4528641D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387-3B2D-43FF-875F-0960A2C4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570-7F69-493F-9237-DEFDF46E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565B-485B-4524-84E2-50B62341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4355-D2DC-4EA0-AE87-98698A8390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6DD7-1AAD-49EB-946F-B97A7ACB01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МОТИВАЦИЈ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два фактор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актори хигије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могу да мотивишу, али уколико нису испуњени могу да изазову незадовољ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актори мотивациј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могу да демотивишу, али уколико су испуњени могу да мотиви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постављања циљев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 идеја теорије је да људи пореде своје тренутне способности да нешто ураде са способностима потребним за успешно остварење циљ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иљеви као мотива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ба да буд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Јасно одређ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лзивни, али достиж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 за мерење достигну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правичност / једнакост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 идеја теорије је да људи налазе мотивацију у поређењу са другим људима са којима ра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и елементи теориј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а која се упоређу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а са којом се упоређује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стве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стве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обе са којом се пореди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особе са којом се пореди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правичност / једнакост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о резултат поређења могућа су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ри исх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Једнак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једнакост због преплаће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једнакост због потплаће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случају неједнак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обе реагују на следеће начин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е сво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е сво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е перцепцију сопствени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е перцепциј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е друге о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е особу са којом се по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е посао или организ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очекивањ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и елементи теори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чекива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ложени труд ће донети резулт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нструментално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д ће бити награђ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алентно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града се перципира као вред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кивање   Инструменталност   Валент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ounded Rectangle 3"/>
          <p:cNvSpPr/>
          <p:nvPr/>
        </p:nvSpPr>
        <p:spPr>
          <a:xfrm>
            <a:off x="228600" y="41148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Уложени 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4"/>
          <p:cNvSpPr/>
          <p:nvPr/>
        </p:nvSpPr>
        <p:spPr>
          <a:xfrm>
            <a:off x="4952880" y="41148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Награ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ounded Rectangle 5"/>
          <p:cNvSpPr/>
          <p:nvPr/>
        </p:nvSpPr>
        <p:spPr>
          <a:xfrm>
            <a:off x="2590920" y="41148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Резулт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ounded Rectangle 6"/>
          <p:cNvSpPr/>
          <p:nvPr/>
        </p:nvSpPr>
        <p:spPr>
          <a:xfrm>
            <a:off x="7238880" y="41148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Лични циље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ight Arrow 7"/>
          <p:cNvSpPr/>
          <p:nvPr/>
        </p:nvSpPr>
        <p:spPr>
          <a:xfrm>
            <a:off x="2057400" y="4419720"/>
            <a:ext cx="4572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e085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Arrow 8"/>
          <p:cNvSpPr/>
          <p:nvPr/>
        </p:nvSpPr>
        <p:spPr>
          <a:xfrm>
            <a:off x="6781680" y="4419720"/>
            <a:ext cx="4572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e085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ight Arrow 9"/>
          <p:cNvSpPr/>
          <p:nvPr/>
        </p:nvSpPr>
        <p:spPr>
          <a:xfrm>
            <a:off x="4419720" y="4419720"/>
            <a:ext cx="4572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d147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Straight Arrow Connector 11"/>
          <p:cNvCxnSpPr/>
          <p:nvPr/>
        </p:nvCxnSpPr>
        <p:spPr>
          <a:xfrm flipH="1">
            <a:off x="1523160" y="5105160"/>
            <a:ext cx="686520" cy="686520"/>
          </a:xfrm>
          <a:prstGeom prst="straightConnector1">
            <a:avLst/>
          </a:prstGeom>
          <a:ln w="1908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96" name="Straight Arrow Connector 13"/>
          <p:cNvCxnSpPr/>
          <p:nvPr/>
        </p:nvCxnSpPr>
        <p:spPr>
          <a:xfrm flipH="1">
            <a:off x="6171480" y="5028840"/>
            <a:ext cx="686520" cy="686520"/>
          </a:xfrm>
          <a:prstGeom prst="straightConnector1">
            <a:avLst/>
          </a:prstGeom>
          <a:ln w="1908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97" name="Straight Arrow Connector 14"/>
          <p:cNvCxnSpPr/>
          <p:nvPr/>
        </p:nvCxnSpPr>
        <p:spPr>
          <a:xfrm flipH="1">
            <a:off x="3733200" y="5105160"/>
            <a:ext cx="686520" cy="686520"/>
          </a:xfrm>
          <a:prstGeom prst="straightConnector1">
            <a:avLst/>
          </a:prstGeom>
          <a:ln w="19080">
            <a:solidFill>
              <a:srgbClr val="cc98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пови мотивације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8600" y="1676520"/>
          <a:ext cx="8686800" cy="4952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522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јални подстицај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јални подстицај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рект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а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но окруж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јални осиг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а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аџ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нора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зионо осиг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говор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радн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тни трошк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потвр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презент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о осигур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имљиви зада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зно радно вр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рављ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на прав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ишњи одм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едо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ела по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о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о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мбени кре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ак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дновање успе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Појам мотивације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а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мотивац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тич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атинс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е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oves, mov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р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#1 Деф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ивација је потреба или жеља која служи да подстакне (појача) понашање и усмери га према циљ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#2 Деф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нутрашњи услов који наводи на акцију (менталну, бихевиорал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е мотивације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Масловљева хијерархија потре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Теориј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еорија два фа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Теорија постављања циљ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Теорија праведности / једна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Теорија очек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Масловљева хијерархија потреб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Isosceles Triangle 4"/>
          <p:cNvSpPr/>
          <p:nvPr/>
        </p:nvSpPr>
        <p:spPr>
          <a:xfrm>
            <a:off x="1295280" y="1981080"/>
            <a:ext cx="4800600" cy="449604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962520" y="2819520"/>
            <a:ext cx="2514600" cy="533160"/>
          </a:xfrm>
          <a:prstGeom prst="rect">
            <a:avLst/>
          </a:prstGeom>
          <a:solidFill>
            <a:srgbClr val="ffe69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отребе за самопотврђивањ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962520" y="3505320"/>
            <a:ext cx="2514600" cy="533160"/>
          </a:xfrm>
          <a:prstGeom prst="rect">
            <a:avLst/>
          </a:prstGeom>
          <a:solidFill>
            <a:srgbClr val="ffe69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отребе за поштовањ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962520" y="4191120"/>
            <a:ext cx="2514600" cy="533160"/>
          </a:xfrm>
          <a:prstGeom prst="rect">
            <a:avLst/>
          </a:prstGeom>
          <a:solidFill>
            <a:srgbClr val="ffe69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отребе за припадањ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962520" y="4876920"/>
            <a:ext cx="2514600" cy="533160"/>
          </a:xfrm>
          <a:prstGeom prst="rect">
            <a:avLst/>
          </a:prstGeom>
          <a:solidFill>
            <a:srgbClr val="ffe69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отребе за сигурношћ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3962520" y="5562720"/>
            <a:ext cx="2514600" cy="533160"/>
          </a:xfrm>
          <a:prstGeom prst="rect">
            <a:avLst/>
          </a:prstGeom>
          <a:solidFill>
            <a:srgbClr val="ffe69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зиолошке потреб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Масловљева хијерархија потреб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8600" y="1752480"/>
          <a:ext cx="8686800" cy="4953240"/>
        </p:xfrm>
        <a:graphic>
          <a:graphicData uri="http://schemas.openxmlformats.org/drawingml/2006/table">
            <a:tbl>
              <a:tblPr/>
              <a:tblGrid>
                <a:gridCol w="2590920"/>
                <a:gridCol w="609588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олошке потр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храном, водом, ваздухом, одећом, становањем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сигурношћ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физичком и психичком сигурношћу, заштитом од спољног утицаја. Сталност посла, пензионо и здравствено осигурањ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припадањ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а за припадањем нација, организацији, групи, религији. Пријатељство и љуба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поштовањ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поштовањем од стране некога и самопоштовањем. Репутација, статус, престиж, моћ, признањ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самоактуелизациј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личним развојем и остваривањем пуног потенција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Масловљева хијерархија потреб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ји хијерархија од пет потреба или пет нивоа потре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јединци се не могу помакнути на следећи виши ниво све док потребе на тренутном нижем нивоу нису задовољ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 се поједина потреба задовољи, следећа потреба постаје доминантна потре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ак преко нивоа потреба могућ је једино према наведеној хијерарх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X </a:t>
            </a: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и 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Y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ва различита погле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запосле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орија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врди 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 желе да раде што то је мање могу могуће тако да менаџери морају да их контроли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 имају мало амбиција и не воле одговорно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 се опиру промен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X </a:t>
            </a: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и 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Y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орија 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врди 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ма није у природи да одбијају поса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 могу бити креативни у решавању проблема постизању циљева организаци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 су спремни да прихвате и траже одговорно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 имају потенцијал за развој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два фактор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62120" y="1905120"/>
          <a:ext cx="7619760" cy="480060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требе нижег степена – Хигијенске потреб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требе вишег нивоа – Фактори мотивац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гну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 р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њ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тике и процедуре у организациј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о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урност по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говорно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с са руководиоц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едовањ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с са колег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4T08:02:26Z</dcterms:modified>
  <cp:revision>198</cp:revision>
  <dc:subject/>
  <dc:title>Soft and Hard Skills Development: A Current Situation in Serbian Companies</dc:title>
</cp:coreProperties>
</file>